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D38-16A4-47C3-B65A-3800B765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42A-EEF4-4BB7-8A8F-4F57546A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5F3-8986-477A-B3AD-9B1433DB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528-7F6C-4F62-8BDF-C1480B4B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105-4AE2-48B9-B4CA-414F9A21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A1F-17F4-4A5A-871F-44D5843F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987-D20C-4701-9930-20F05E88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773-4739-45AE-9D23-0A8068E7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F67-3D26-4106-8E09-4DE06594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F4C-3938-4527-9966-D9CC04C1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47B-992B-4D5E-8998-8D5F2BE7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3AF-FC9A-4E5F-9942-4B0D75B2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3A29-9720-49E2-A7AD-A16560E3BD8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Transformace pobytových sociálních služeb a adaptace všech zúčastněných na úrovni místní komunity – vznik „nové“ komunity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73771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ohled VH, p. s. s. na transform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stěhování s ústavu do domácností (neje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s lim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Rizika trans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aladěný prac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ydět se za chy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komunik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ůstávat ve stereoty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ní prvky v domácn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Ústavní prvky v domácn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uje a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istent podporuje tak, jak to má u sebe d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nní rež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ichni  - všechno – stej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zemí asist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bjekty s více domácnost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stupní stanice“ -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amostatné fungování domácností – ZAMĚŘIT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ová komunita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komunity – NEVYTVÁŘÍ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m, kde služby poskytujeme – jsme součástí ko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– nesupluje roli obč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živatel služby – je občanem města, kde ž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lánování – je důlež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né sociální služby hodnotíme a plánu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upujeme podl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rategického plá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uštění ústavní budovy a přestěhování do domác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řování k terénním služb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měřování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dlím u sebe doma a využívám podporu sociál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užeb tak, jak potřebuji, využívám pomoc a podp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ty…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120" y="335736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kéta Blažíková, D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c. Simona Pulkráb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Simona</cp:lastModifiedBy>
  <dcterms:modified xsi:type="dcterms:W3CDTF">2015-04-22T20:18:34Z</dcterms:modified>
  <cp:revision>41</cp:revision>
  <dc:subject/>
  <dc:title>Snímek 1</dc:title>
</cp:coreProperties>
</file>