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C91-EC35-4449-9F21-063D8FE0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502-C1A9-4BB6-B087-12E510D0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FBC-14F7-4F13-B262-E098D1D2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85E-C47E-465C-A69D-FA5E09B9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CBD-C583-4C17-9C6F-745C66E7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513-D907-45B2-A4B3-64520232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C57-1665-4B13-B7E6-D20352F7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E62-2E30-4EA0-BBBC-14BE4596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6AD-4EE3-4146-BBDE-36BACF9B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730-5FFD-414B-8690-90895D23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EBF-2D32-4C52-BF74-CA327DA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E0F-D87A-4E39-96BD-D524C7F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7C88-0D25-401F-BDC4-47EC00A0E4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r-stredocesky.cz/documents/20688/2725296/Sber_a_analyza_dat_final.pdf/1389b024-a5e8-48e7-ac5a-9062dbcf51de" TargetMode="External"/><Relationship Id="rId2" Type="http://schemas.openxmlformats.org/officeDocument/2006/relationships/hyperlink" Target="http://www.kr-stredocesky.cz/documents/20688/2725296/Sber_a_analyza_dat_final.pdf/1389b024-a5e8-48e7-ac5a-9062dbcf51de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věrečná konference k individuálnímu projektu: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„Podpora procesů směřujících k poskytování sociálních služeb a sociální práce s důrazem na jednotnou strategii ve Středočeském kraji„ </a:t>
            </a:r>
            <a:br>
              <a:rPr sz="2400"/>
            </a:b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reg. č.: CZ.1.04/3.1.00/A9.00001</a:t>
            </a:r>
            <a:br>
              <a:rPr sz="2400"/>
            </a:br>
            <a:br>
              <a:rPr sz="2400"/>
            </a:b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28.4.2015</a:t>
            </a:r>
            <a:br>
              <a:rPr sz="2400"/>
            </a:br>
            <a:br>
              <a:rPr sz="2400"/>
            </a:br>
            <a:r>
              <a:rPr b="1" i="1" lang="cs-CZ" sz="2700" spc="-1" strike="noStrike">
                <a:solidFill>
                  <a:srgbClr val="000000"/>
                </a:solidFill>
                <a:latin typeface="Arial"/>
              </a:rPr>
              <a:t>Představení projektu a jeho výstup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73771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– konzultační centrum (v procesu)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konzultačního centra je především podpořit odborné znalosti a dovednosti sociálních pracovníků obcí II. a III. typu, a to formou bezplatných konzultací. O zahájení činnosti KC byli informováni v průběhu března vedoucí odborů na obcích II. a III. stupně, následně také sociální pracovníci jednotlivých úř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davatel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P Consulting, s.r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ba trvání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 17.3.2014 do 31.5.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ajištění předávání dotazů: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lefonicky, od 7-17 hod (PO-PÁ),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tel.: 733 621 1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emailem na adresu: kc@3pconsulting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hledem k malému zájmu obcí II. a III. stupně, byly dodavatelem v září 2014 osloveny obce I. stupně, které se můžou na KC obracet zejm. v těchto oblaste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Veřejné opatrovnic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Sociální pohř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Správní řád v sociálních služb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– konzultační centrum (v procesu)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hledem k přetrvávajícímu malému zájmu obcí o Konzultační centrum byla obcím nabídnuta „metodická sezení“ v rámci KC na tyto tém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louvy o poskytování soc. služeb, jednání se zájemc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řejné opatrovnictví (2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láštní příjemce dávky důchodového pojiště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ciální pohř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řejné opatrovnic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á nouze (bude realizováno v průběhu květ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hrnut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lký zájem o metodická sezení, malý zájem o Konzultační centrum, převažuje nespokojenost s činností KC ze strany obcí – průběh, nejasné expertní zaměř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DE O PILOTNÍ AKTIVITU SK. S OHLEDEM NA MALÝ ZÁJEM RESP. JINÁ OČEKÁVÁNÍ OD OBCÍ, SK NEPŘEDPOKLÁDÁ POKRAČOVÁNÍ AKTIVIT PO UKONČENÍ PROJE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– Sběr a analýza dat - realizová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ámci této klíčové aktivity se předpokládal relevantní sběr dat nutných pro zmapování situace ve Středočeském kraji. Tato data by měla být podkladem nejen pro zmapování, ale také pro provázání a finanční udržitelnost sociálních služeb ve Středočeském kra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davatel: Grant Thornton Advisory, s.r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atum finálního odevzdání analýzy: 31.10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této klíčové aktivitě se kromě dodavatele podílely pracovní skupiny a opone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stupnost analýzy na stránkách kraje pod záložkou „Sociální oblast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r-stredocesky.cz/documents/20688/2725296/Sber_a_analyza_dat_final.pdf/1389b024-a5e8-48e7-ac5a-9062dbcf51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– Střednědobý plán rozvoje sociálních služeb - aktu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ámci této aktivity se předpokládá vytvoření jasného a udržitelného modelu plánování rozvoje sociálních služeb ve Středočeském kraji, který bude aplikován ve vytvořeném Střednědobém plánu rozvoje sociálních služeb od roku 2015 a dá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a základě přechodu financování sociálních služeb z MPSV na kraje od roku 2015, bylo nezbytné vytvořit Střednědobý plán rozvoje soc. sl. již v roc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současné době probíhá finalizace aktualizace plánu na další obdo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ákladní informace 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Typ projektu - výzv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 Individuální projekt realizovaný z výzvy A9 OP LZZ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Realizátor: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Středočeský kraj (pod Odborem sociálních věcí - oddělení individuálního projektu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Registrační číslo projektu: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CZ.1.04/3.1.00/A9.0000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Rozpočet projektu: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10 339 820,00- Kč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Doba realizace projektu: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1.9.2013 až 30.6.20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Cíle projekt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Vzdělání zadavatelů sociálních služ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běr a analýza dat sloužící jako podklad pro Střednědobí plá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Koordinace a podpora procesů v sociálních službách a sociální práci skrze Konzultační cent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Vytvoření Střednědobého plánu sociálních služeb od roku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řehled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V rámci projektu jsme se zavázali k 30.6.2015 splnit následující indikát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et podpořených osob – celkem = 135 os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et podpořených organizací – celkem = 1 organ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et úspěšných absolventů kurzů – celkem = 1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et nově vytvořených/inovativních produktů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- Vzdělávání zadavatelů sociálních služeb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ctr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ociální práce a koordinace – plánov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koordinátorů plánování (cca 30 osob) z obcí a kraje v rozsahu min. 40 hod a max. 56 hod. v kurzu /kurzech/ směřujícím k zajištění procesu plánování na úrovni potřeb, indikátorů, nastavení procesů, facilitace apod. Kurzy akreditovány u MPS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vzdělávání pro soc. prac. obcí a (částečně i kraje) v jednodenních akreditovaných  kurzech týkajících se soc. práce s tím, že by mělo být podpořeno cca 150 účastníků (70 osob) při 15 jednodenních kurzech (minimálně 5 různých) zaměřených na sociální práci úředníků se specifickými skupinami a osob apod., realizace kurzů umožní reflektovat potřebu profesionalizace soc. práce a její multidisciplin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451640" y="2997360"/>
          <a:ext cx="114480" cy="1920600"/>
        </p:xfrm>
        <a:graphic>
          <a:graphicData uri="http://schemas.openxmlformats.org/drawingml/2006/table">
            <a:tbl>
              <a:tblPr/>
              <a:tblGrid>
                <a:gridCol w="124560"/>
              </a:tblGrid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- Vzdělávání zadavatelů sociálních služeb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ctr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ociální práce a koordinace – realizov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vzdělávání koordinátorů plán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davatel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zdělávací institut Středočeského kr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sah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 osmihodinových kurzů – 2 skupiny (jaro 2014, podzim 2014); rozsah kurzu 56 ho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dnotlivá setkání a jejich zaměřen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Úvod do komunitního plánování sociálních služeb; Komunitní plánování sociálních služeb aneb jak monitorovat a vyhodnocovat; Facilitace – umíme vést pracovní skupinu?; Sociologické techniky v rámci procesu komunitního plánování; Jak prezentovat služby (v komunitním plánování); Specifika strategické části v komunitním plánování sociálních služeb; Komunitní plánování a transformace sociálních služ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astníci a úspěšní absolventi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 účastníků; 24 úspěšných absolven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3xKÚ SK; 2x Kladno; 1xM.Boleslav; 1x Brandýs n/L; 1xČ.Brod, 2xHořovice; 1xK.Hora; 3xKralupy n/Vl.; 2xLysá n/L; 2xNeratovice; 1xNymburk; 1xOd.Voda; 1x Příbram; 2xSvaz měst a obcí Rakov.; 1xMěstys Křivoklá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končen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0.2.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hrnut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nší zájem než byl předpoklad, limitem neexistence pozic koordinátorů plánování na obcích, zájem i ze strany jiných pozic a malých obc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51640" y="2997360"/>
          <a:ext cx="114480" cy="1920600"/>
        </p:xfrm>
        <a:graphic>
          <a:graphicData uri="http://schemas.openxmlformats.org/drawingml/2006/table">
            <a:tbl>
              <a:tblPr/>
              <a:tblGrid>
                <a:gridCol w="124560"/>
              </a:tblGrid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- Vzdělávání zadavatelů sociálních služeb I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ctr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ociální práce a koordinace – realizov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b) vzdělávání sociálních pracovníků obcí a k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davatel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zdělávací institut Středočeského kr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sah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5  osmihodinových kurzů – jednodenní kurzy – 6 různých zaměření (Sociálně – právní ochrana dětí v praxi; Finanční gramotnost pro sociální pracovníky a pracovníky v sociálních službách; Sociální práce s nespolupracujícím klientem; Veřejné opatrovnictví v praxi sociálního pracovníka; Sociální práce s osobami bez domova; Specifika sociální práce s osobami s duševním onemocnění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astníci a úspěšní absolven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52 účastníků; 152 úspěšných absolventů; 97 podpořených osob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končen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7.1.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hrnut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lký zájem; z některých obcí až 15 účastníků (např. Čásla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- Vzdělávání zadavatelů sociálních služeb 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417320"/>
            <a:ext cx="856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II. výcvik dovedností – pro podporu řešení krizových situací a řízení mediačních procesů – plánov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vzdělání cca 15 osob na úrovni obcí a kraje v mediaci v rozsahu cca 100 hod. v akreditovaném kurzu. Cílem podpořit soc. prac. zařazené do obecních úřadů a úředníky kraje, vykonávající soc. práci s rodinou nebo osobami, jejichž způsob života může vést ke konfliktu se společ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vzdělání cca 20 osob na úrovni obcí a kraje v krizové intervenci v rozsahu cca 150 hod. v akredit. kurzu. Cílem podpořit soc. prac. zařazené do obecních úřadů a úředníky kraje,  vykonávající soc. práci s rodinou nebo osobami, jejichž způsob života může vést ke konfliktu se sp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451640" y="2997360"/>
          <a:ext cx="114480" cy="1920600"/>
        </p:xfrm>
        <a:graphic>
          <a:graphicData uri="http://schemas.openxmlformats.org/drawingml/2006/table">
            <a:tbl>
              <a:tblPr/>
              <a:tblGrid>
                <a:gridCol w="124560"/>
              </a:tblGrid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- Vzdělávání zadavatelů sociálních služeb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II. výcvik dovedností – pro podporu řešení krizových situací a řízení mediačních procesů – realizov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Výcvik v media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davatel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DUCO CENTRUM s. r. 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sah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00 hodinový výcvik v medi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astníci a úspěšní absolventi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5 účastníků z obcí a KUSK; všichni úspěšně ukonč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končen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5.7.2014 ukončeno závěrečnými zkoušk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hrnut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lký zájem, realizováno v 3 denních blocích; zájem o pokračování v navazujících kurz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51640" y="2997360"/>
          <a:ext cx="114480" cy="1920600"/>
        </p:xfrm>
        <a:graphic>
          <a:graphicData uri="http://schemas.openxmlformats.org/drawingml/2006/table">
            <a:tbl>
              <a:tblPr/>
              <a:tblGrid>
                <a:gridCol w="124560"/>
              </a:tblGrid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ktivity - Vzdělávání zadavatelů sociálních služeb 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II. výcvik dovedností – pro podporu řešení krizových situací a řízení mediačních procesů – realizov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Výcvik v krizové interve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davatel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DUCO CENTRUM s. r. 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sah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50 hodinový „výcvik“ v krizové interve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astníci a úspěšní absolventi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0 účastníků z obcí a KUSK; všichni úspěšně ukonč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končen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9.2014 ukončeno závěrečnými zkoušk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hrnutí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lký zájem z některých obcí (zejm. ze strany Benešova a Kladna – po 3 účastnících), realizováno v blocích; zájem o pokračování v navazujících kurz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Divoký Jan</cp:lastModifiedBy>
  <cp:lastPrinted>2015-04-22T11:55:55Z</cp:lastPrinted>
  <dcterms:modified xsi:type="dcterms:W3CDTF">2015-04-27T08:50:50Z</dcterms:modified>
  <cp:revision>87</cp:revision>
  <dc:subject/>
  <dc:title>Snímek 1</dc:title>
</cp:coreProperties>
</file>