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209-6449-4FA7-B9D8-A01CA894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40B-C13A-4250-A024-4DE44A1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5C5-988B-455A-9D65-EBDF7ED5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F7B-B51A-4280-847A-27318861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5BC-C5F5-41CF-80A7-AE63B967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B92-6151-4EA3-8355-78533FEE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830-E77E-434B-9920-BD4548CC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79B-402E-421B-9330-971ED487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D0A-A097-4724-9CF2-0B35861F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931-2955-4561-BE70-8FBDC791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183-D76B-4061-9110-980911B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BCA-A3F4-4CB1-B1D3-E1175DD5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6ACF-DB40-4345-A64B-078D988EB2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jan.vrbicky@mpsv.cz" TargetMode="External"/><Relationship Id="rId2" Type="http://schemas.openxmlformats.org/officeDocument/2006/relationships/hyperlink" Target="mailto:jan.vrbicky@mpsv.cz" TargetMode="External"/><Relationship Id="rId3" Type="http://schemas.openxmlformats.org/officeDocument/2006/relationships/hyperlink" Target="mailto:jan.vrbicky@mpsv.cz" TargetMode="External"/><Relationship Id="rId4" Type="http://schemas.openxmlformats.org/officeDocument/2006/relationships/hyperlink" Target="mailto:jan.vrbicky@mpsv.cz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14407e"/>
                </a:solidFill>
                <a:latin typeface="Arial"/>
              </a:rPr>
              <a:t>Plánování, potřebnost a kvalita sociálních služeb v ČR -  </a:t>
            </a:r>
            <a:br>
              <a:rPr sz="3200"/>
            </a:br>
            <a:r>
              <a:rPr b="0" lang="cs-CZ" sz="3200" spc="-1" strike="noStrike">
                <a:solidFill>
                  <a:srgbClr val="14407e"/>
                </a:solidFill>
                <a:latin typeface="Arial"/>
              </a:rPr>
              <a:t>současnost a viz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73771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an Vrbický – vedoucí oddělení koncepce sociálních služeb MP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Vladana Vasková, ThDr. Markéta K. Holeč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7777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Národní strategie rozvoje sociálních služeb na rok 201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vody pro vypracován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souvislosti s novelou zákona o sociálních službách bude docházet k podstatný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měnám v systému sociálních služeb, které by strategie měla reflektov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ude možné zapracovat výstupy z projektů MPSV (předpoklad, že také tyto výstupy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udou mít významný dopad do oblasti sociálních služ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tup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1/2015 sestavena pracovní skup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 – cca 7/2015 práce skupiny a dokončení pracovní ver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8 – 12/2015 standardní proces konzultací a připomínkování a předložení vládě Č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Současný stav sociální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str poskytovatelů sociálních služeb eviduj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než 5400 sociálních služ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77 poskytovatelů sociálních služ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Současný stav úpravy kvality sociálních služeb – legislativní ráme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a podle zákona č. 108/2006 Sb., o sociálních službách, ve znění pozdějších předpis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§ 2 – základní zás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§§ 88 – 89 – povinnosti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§ 99 – definice kv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§§ 97 – 98 – inspekce poskytování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§ 107 – správní deli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oha č. 2 – kritéria Standardů kvality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Současný stav úpravy kvality sociálních služeb - 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y a povinnosti jsou členěny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rsonální, provozního zabezpečení, oblast vztahů mezi poskytovatelem a osobam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v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sou východiskem pro definování kritérií Standar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 neplnění povinností jsou v některých případech jsou v § 107 definovány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rávní delik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§ 8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upnost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ovanost o povinnostech smlouvy (včetně výše úhrad, způsobu poskytování sociální služ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 pro ochranu lidských prá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pro oprávněné zájmy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pro stí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ánování sociál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vidence žadatelů o sociální služ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držovat standardy kvality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zavřít smlou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Standardy kvality sociální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15 Standardů kvality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íle a způsoby poskytování sociálních služ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chrana práv os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ednání se zájemcem o sociální služ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mlouva o poskytování sociální služ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dividuální plánování průběhu poskytování sociální služ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kumentace o poskytování sociální služ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ížnosti na kvalitu nebo způsob poskytování sociální služ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vaznost poskytované sociální služby na další dostupné zdro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ersonální a organizační zajištění sociální služ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fesní rozvoj zaměstnanc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ístní a časová dostupnost poskytované sociální služ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formovanost o poskytované sociální služb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středí a podmín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ouzové a havarijní situ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vyšování kvality sociální služ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Inspekce poskytování sociální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1. 1. 2015 vykonává MP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Příprava novely zákona o sociálních službá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1. 1. 2017 účinnost novely zákona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 sociálních služb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yní probíhají konkrétní příprav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 rámci expertních skupin, individuálních projektů MP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Inovace systému kvality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oncepční záměry MPSV </a:t>
            </a:r>
            <a:br>
              <a:rPr sz="2300"/>
            </a:b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ve kvalitě sociálních služe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chodisko poskytování sociálních služeb - nepříznivá sociální situ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registrace (z pohledu kvality přesun oblastí materiálně-technické a personální prostřednictvím – materiálně- technického standardu a personálního standar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zákonného pojetí kvality poskytování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Nepříznivá sociální situ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aha definovat pojem jako východisko pro poskytování pomoci a podpory ze systému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de určovat druh poskytované sociální služby, která danou podporu a pomoc bude zprostředkováv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rnovat i určitým způsobem určení okruhu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épe zajistí cílenou podporu konkrétnímu klient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stí efektivitu poskytování sociál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Novelizace zák. č. 108/2006 Sb. v oblasti plánování soc.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§ 3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písmen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ědobým plánem rozvoje sociálních služeb se rozum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rategický dokumen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ce nebo kra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chválený na dobu 3 le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ý je výsledkem aktivního zjišťování potřeb osob na území obce nebo kraje a hledání způsobů jejich uspokojování s využitím dostupných zdrojů; jeho obsahem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uhrn a výsledky podkladových analýz a da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opis způsobu zpracování plán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četně vymezení spolupráce s obcemi, s poskytovateli sociálních služeb a osobami, kterým jsou sociální služby poskytová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opis a analýza dostupných zdrojů a potřeb osob, kterým jsou sociální služby určeny, včetně ekonomického vyhodnocení, strategie zajišťování a rozvoje sociálních služeb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sahující popis budoucího žádoucího stavu a opatření, jejichž prostřednictvím by mělo být tohoto stavu dosažen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ovinnosti zúčastněných subjektů, postup sledování a vyhodnocování plnění plánu včetně způsobu, jakým lze provést změny v poskytování sociálních služeb a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ůsob zajištění sítě sociálních služeb na území kra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střednědobý plán rozvoje sociálních služeb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ůže být doplněn akčními plány zpracovanými na období jednoho roku, které vycházejí ze střednědobého plánu rozvoje sociálních služe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“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Nepříznivá sociální situ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rianty řeš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á definice nepříznivé sociální situace – současné znění zá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ativní výčet nepříznivých sociální situ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á definice nepříznivé sociální situace – ale podrobnější definování znění zá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Materiálně technický a personální stand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: lepší zajištění dodržování lidských práv klientů v sociálních službá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m je nastavení minimálních podmínek, aby byla služba bezpečná, např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mální počet pracovníků na počet kli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ximální počet klientů na poko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ástí registračních podmí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guje na praxi sociálních služeb, která  požaduje jasné nepodkročitelné požadavky pro tyto oblasti, které budou závazné již při registraci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valita poskytování sociální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aha reagovat na nespokojenost poskytovatelů se stávajícím nastavením sociálních služe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asné stanovení požadavků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stranění duplicit ve znění povinností a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né požadavky nejsou objektiv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kontrole dovolují subjektivní výklad hodnoti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valita poskytování sociálních služeb - 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vinnosti poskytovatele (§ 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é povinnosti budou zpracovány v obecném znění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udou závazné ve znění dílčích kritérií (vyhláška 505/2006 Sb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a souvisí s novým vymezením nepříznivé sociální situ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důraz na osobní práci s klientem podle jeho nepříznivé sociální situ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innosti a kritéria kvality sociálních služeb zpracován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5 oblastech kv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rance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ces poskytování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dskoprávní ob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dení dokument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uprá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valita poskytování sociálních služeb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ílem revize zákonného pojet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řehlednění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ížení administrativní zátě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konkretizování dílčích požadavků povinností ve znění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duplicit (registrace, ustanovení kvality vzájemně, s jinou právní úprav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stavení objektivních a dokazatelných kritérií kv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ĚKUJEME ZA POZORNO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n.vrbicky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mps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vladana.vasko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psv.cz, marketa.holecko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psv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Novelizace zák. č. 108/2006 Sb. v oblasti plánování soc.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§ 3, písmeno i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ítí sociálních služeb se rozumí souhrn sociálních služeb, které v dostatečné kapacitě, náležité kvalitě a s odpovídající místní dostupností napomáhají řešit nepříznivou sociální situaci osob na území kraje a které jsou v souladu se zjištěnými potřebami osob na území kraje a dostupnými finančními a jinými zdroji; síť sociálních služeb je součástí střednědobého plánu rozvoje sociálních služeb kraje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Novelizace zák. č. 108/2006 Sb. v oblasti plánování soc.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§ 94, písmeno f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ec spolupracuje s krajem při určování sítě sociálních služeb na území kraje; za tím účelem sděluje kraji informace o kapacitě sociálních služeb, které jsou potřebné pro zajištění potřeb osob na území obce a spoluvytváří podmínky pro zajištění potřeb těchto osob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§ 95, písmeno h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aj určuje síť sociálních služeb na území kraje; přitom přihlíží k informacím obcí sděleným podle § 94 písm. f)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§ 96, písmeno b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isterstvo zpracovává národní strategii rozvoje sociálních služeb, sleduje a vyhodnocuje její plnění a ve spolupráci s kraji určuje parametry dostupnosti sociálních služeb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Novelizace zák. č. 108/2006 Sb. v oblasti plánování soc.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§ 101a se na konci odstavce 3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plňuje vět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mínky pro zpracování a strukturu střednědobého plánu rozvoje sociálních služeb stanoví prováděcí právní předpis.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to nabývá účinnosti dnem 1. ledna 20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ritéria kvality plánování rozvoje soc. služeb na krajské úrovni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ovní náz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ednocení pohledu na proces, výstupy a výsledky střednědobého plánování rozvoje soc. služeb a dále se záměrem blíže osvětlit nebo detailněji rozvést některá ustanovení zákona č. 108/2006 Sb., o soc. službách týkající se tématu střednědobého plánová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časná verze vytvořena pracovní skupinou, dále připomínkové „předkolo“ se zástupci čtyř vybraných krajských úřadů,  dále projednání se zástupci všech krajských úřadů a připomínky vyrovnán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finálním dokončení (předpoklad 5/2015) mají sloužit jako vodítko pro kraje při realizaci procesu plánování a při přípravě SPRSS, do budoucna se počítá s ukotvením hlavních principů a postupů uvedených v Kritériích v prováděcí vyhlášce k zákonu č. 108/2006 Sb., o soc. službách (účinnost od 1. 1.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růběhu roku 2015 (nejpozději 3. čtvrtletí) budou doplněna o „Metodiku pro vytváření krajské sítě sociálních služeb a pro plánování finančních prostředků v rámci procesů vytváření krajských střednědobých plánů rozvoje sociálních služeb“, která blíže popíše principy tvorby, naplňování a úpravy krajské sítě soc. služ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ritéria kvality plánování rozvoje soc. služeb na krajské úrovni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enění na šest dílčích činností - pro jasnější strukturovanost a srozumitelnost tex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ovení a schválení záměru a zadání pro celé plánovací obdo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jištění současného stavu v oblasti sociálních služeb na území kr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rčení strategického směřování a způsobu zajišťování sociálních služeb na území kr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racování SPRSS (obsahujícího síť nebo koncept sítě sociálních služeb kraje) a příp. i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alizace, řízení SPRSS/AP a provádění změ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hodnocení/evalu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loh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 SPR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e – Dokumenty - Organizační struktura a personální zajištění plánovac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valuační zprá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705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Národní strategie rozvoje sociálních služeb na rok 201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ámcový dokument, který definuje základní cíle a opatření pro rok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ovuje pouze globální cíle sociální politiky, kterých je možné prostřednictvím působení sociálních služeb dosáhn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racována Odborem sociálních služeb MPSV ve spolupráci s pracovní skupin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tupnou diskuzí a legislativním vývojem v roce 2014 byl dokument ve spolupráci se zástupci koaliční stran, sociálních partnerů, krajů a zástupců poskytovatelů sociálních služeb přepracová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válena vládou ČR usnesením č. 38 z 19.1.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ěkolik částí: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cepční východiska = zásadní premisy 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nalytická část = popis vybraných analytických údajů či informací a shrnut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ledků některých analý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ategická část = vize a cí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Národní strategie rozvoje sociálních služeb na rok 201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last dostupnosti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Cíl 1.1. Zajistit jednotný způsob plánování sociálních služeb v souladu s principem subsidiarity, tzn. nejblíže tam, kde se sociální pomoc odehráv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Opaření  1.1.1. Připravit podklady pro podrobnější legislativní ukotvení procesu střednědobého plánování rozvo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sociálních služeb na krajské úrovni se spoluúčastí ob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Opatření 1.1.2 Zajistit jednotný systém sledování sociálních jevů v území s propojením na registraci poskytovatel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sociálních služ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last kvality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last profesionality v sociálních službách a jejich správ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last zvyšování efektivity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last financov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Detailněji viz: http://www.mpsv.cz/files/clanky/20258/III.pdf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Holečková Markéta (MPSV)</cp:lastModifiedBy>
  <cp:lastPrinted>2015-04-27T06:03:59Z</cp:lastPrinted>
  <dcterms:modified xsi:type="dcterms:W3CDTF">2015-04-27T06:42:26Z</dcterms:modified>
  <cp:revision>36</cp:revision>
  <dc:subject/>
  <dc:title>Snímek 1</dc:title>
</cp:coreProperties>
</file>