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D23-FF5D-4419-8E0B-34F13928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ADA-8628-4992-BE08-7E08D494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A72-F1FA-4267-8478-F1AEA2D6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64E-DB30-4D21-827C-5AE77EC4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179-1B0A-41CE-BE86-25C5D7B8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B65-0080-4191-AFF1-ED92F75D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BFD-822E-43CB-911B-062820B9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852-7D04-4941-B361-248394CB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DAC-F305-4AF7-8F92-AAE6D22C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197-92AE-4D8C-BA62-64A3D542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DC7-92E6-4DC4-B3F5-DB00092E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EE5-2179-447D-871C-AEAAEDEB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B2F3-FA1B-48B5-94EE-99693B9F7E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h.p@centrum-podebrady.inf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oskytování sociálních služeb v přirozeném prostředí – ve stávající komunitě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73771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260280"/>
            <a:ext cx="81342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 matkou mám krásný vztah, měla jsem báječné rodiče, chci se postarat z lásky, starala se o mě celý život. Je to samozřejmost, rodiče mi pomáhali, proto jim to chci vráti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okud člověk chce pečovat, tak jde všechno, člověku to nesmí být na obtíž. Nikdo neví, na jak dlouho to je. Pečuji, aby tchyně nemusela do domova pro seniory, protože doma v rodině má její život smysl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dstavila jsem si, že budu v její kůži a nechtěla jsem ji nikam dát, je to máma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O vážně nemocnou manželku se chci postarat, jsme 40let manželé, nechci být zbabělý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260280"/>
            <a:ext cx="81342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ociálně právní ochrana dě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ovázení a podpora pěstounských rodin v naplnění poslání v péči o svěřené děti a v naplnění jejich práv a povin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 roku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agovali jsme na požadavky odborů sociální pé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ískali jsme pověření k výkonu sociálněprávní ochrany dě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cca 100 rodin na okrese Nymburk zabezpečujeme 27 pěstounských r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03440" y="189000"/>
            <a:ext cx="81342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n Přibáň,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.p@centrum-podebrady.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685800" y="260280"/>
            <a:ext cx="77724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o je to přirozené prostředí člově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ěžný způsob živo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vobod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možnost rozhodovat o svém živo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odin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lidé se kterými jste propoj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mov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místo kam se chcete vracet, kde se cítíte bezpeč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omun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Místo, kde se cítíme svobodně, místo které máme rádi, kde jsou naši blízcí, kde jsem spokojený a kde mi nic nechy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85800" y="260280"/>
            <a:ext cx="77724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rénní sociální služby pro seniory jsou na okrese Nymburk poskytovány od roku 19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ečovatelská služba, nebo-li pomoc starým, osamělým občanům, je jedna z nových forem sociálního zabezpečení. Poskytuje se zpravidla občanům, kteří pro nepříznivý zdravotní stav nejsou schopni si obstarávat nutné práce v domácnosti nebo potřebují stálé obsluhy a ošetření jinou osobou. Řízení o zavedení pečovatelské služby se zahajuje na žádost občana – jinak muže být řízení zahájeno z podnětu kolektivu, veřejnosti, lékaře, městského národního výboru, sousedů.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Účelem pečovatelské služby je umožnit občanům hospodárnou denní péčí, žít co možná nejdéle v prostředí, na které jsou zvyklí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ok 19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85800" y="260280"/>
            <a:ext cx="77724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005 zrušení Pečovatelské služby okresu Nymbu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4 stř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čovatelská služba, denní stacionáře, domácí zdravotní pé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odely pokračování: rozdělení na jednotlivá ORP, zachování stávajíc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lidární spolu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na fungování – správní a dozorčí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85800" y="260280"/>
            <a:ext cx="77724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olidární způsob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še dotace od obce je nezávislá na vzdálenosti od stř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yvy v počtu klientů jsou pokryty solidárním způsob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ce platí podle stejného klíče, bez ohledu na vzdálenost, počet klientů v obci a náročnost péč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ent má stejnou úhradu ve městě jako v nejvzdálenější ob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ždý klient na území má nárok na stejný rozsah péč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685800" y="260280"/>
            <a:ext cx="77724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odina – pokud má klient fungující rodinné zázemí, máme vyhrá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rénní služby nejsou připraveny pečovat o osamělého a zcela závislého člově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roce 2014 byla u 90% našich klientů spolupráce s rodinou dobr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á = rodina se snaží klientovi v rámci svých možností pomáhat, zajímá se jak o klienta, tak o spolupráci s námi podle potře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% pečující rodina, 9% osamělí lid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685800" y="260280"/>
            <a:ext cx="77724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ociální služby nesta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 roku 2001 jsme nestátní zdravotnické zařízen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áme uzavřeny smlouvy se 6 zdravotními pojišťovnami včetně VZ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spicová péče v domácím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Sociální služby se snažíme poskytovat v přirozeném prostředí. Chceme také umírat ve svém přirozeném prostře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685800" y="260280"/>
            <a:ext cx="81342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ez obcí se neobejdeme! Obejdou se obce bez n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81 obecních úřadů, 140 ob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ce rozhodly o našem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chceme být pouhým dodavatelem sociální a zdravotní služ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ceme být prospěšným partne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 jeho rozloze 850 km2 je 87 obcí, 7 menších měst a 3 městy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většími městy jsou Poděbrady a Nymburk s necelými 15 000 obyvate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8 % obyvatel ve městech a 42% v obc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685800" y="260280"/>
            <a:ext cx="81342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ové věci nevymýšlíme my, jen se snažíme reagovat na poptáv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bytová odlehčovací služba vznikla z potřeb klientů a pečující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ce rodinného pečujícího je náročná, protože je neustálá a souvisl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pacita 8 lůžek pro celý okres Nymbu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chceme suplovat pobytová zařízení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 OP LZZ – vzdělávací kurzy pro pečující osoby – „Pečujeme abychom pomáhali. Učíme se abychom pečovali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Jan Přibáň</cp:lastModifiedBy>
  <dcterms:modified xsi:type="dcterms:W3CDTF">2015-04-27T09:38:05Z</dcterms:modified>
  <cp:revision>44</cp:revision>
  <dc:subject/>
  <dc:title>Snímek 1</dc:title>
</cp:coreProperties>
</file>