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6A6B-EBA1-4021-8639-2C5876AE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716-F94A-41D6-B902-07030724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E8B-DA9F-4F32-8BD9-D526F778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1C3-A167-4B44-8A84-72A8909F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83FA-B585-40B4-9862-1CEA963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FAF-A5A3-4972-9FF1-F9670AA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FAC-8DBF-4E35-98C4-87482467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400-113C-4340-A963-DC8F6C04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819-24A6-484A-8C5C-BD75CC4E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ABF-2FAD-4BAA-A65E-46082ABF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8F3-2110-4978-9A11-8FCE2243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804A-237B-403D-B780-B470E52E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79EC-E3D8-4BAB-90C9-DFC6B4D407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divoky@kr-s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fryc@kr-s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fryc@kr-s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mozis@kr-s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ivoky@kr-s.cz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ní konference k Individuálnímu projektu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procesů v Sk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8.11.2013 Pr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27280" y="4436640"/>
            <a:ext cx="6696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é aktivity – Odbor sociálních vě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gr. Vladislav Fry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5) Vzdělávání pro sociální pracovní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vzdělávání pro soc. prac. obcí v jednodenních akreditovaných  kurzech týkajících se soc. 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yní VZ na dodavatele – zahájení realizace cca od 1.1.2014 – do 31.3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zd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ělo by být podpořeno cca 150 účastníků (min. 70 osob) při 15 jednodenních kurzech (minimálně 5 různých) -  /jednodenní kurzy - 15x kurz po 10ti účastnících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budou akreditovány u MPSV Č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ů se budou účastnit jak sociální pracovníci kraje, tak obcí s rozšířenou působností (ORP), tak pověřených obecních úřadů PO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émata dle zaměření sociální práce na ob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6) Krizová intervence – výcvik v krizové intervenci – akreditovaný ku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sociální pracovníky zařazené do obecních úřadů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kraji a úředníky kraje, přednostně vykonávající soc. práci s rodinou nebo osobami, jejichž způsob života může vést ke konfliktu se spole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yní V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a dodavatele – zahájení realizace cca od 1.1.2014 – do září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ar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cena kurzu na volném trhu cca 30 tis / účastník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vý rozsah kurzu je stanoven na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50 hod. – 158 hod. na jedno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půjde o telefonickou krizovou interven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výběr je stanoven poče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5-17 osob z Obcí s rozšířenou působností 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elkem 20 osob (3 – 5 kra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e – aktivně působící zaměstnanec v rámci „páteřní sítě“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ikoliv vzdělání pro vzděl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 výběru bude dáván důraz n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kušenosti zaměstnance,  vzdělání zaměstnance,  vazba na vykonávanou agendu,  předpoklad využití krizové intervence pro další práci v rámci sociální práce pro konkrétní ORP!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namné pro výběr bude i zhodnocení motivace konkrétní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omezený počet míst….. zodpovědnost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7) Mediace – výcvik v mediaci – akreditovaný kur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sociální pracovníky zařazené do obecních úřadů (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R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v kraji a úředníky kraje, přednostně vykonávající soc. práci s rodinou nebo osobami, jejichž způsob života může vést ke konfliktu se společnost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yní V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na dodavatele – zahájení realizace cca od 1.1.2014 – do září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dar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cena kurzu na volném trhu cca 30-35 tis / účastník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vý rozsah kurzu je stanoven na 100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od. na jedno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výběr je stanoven počet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 osob z Obcí s rozšířenou působností (ORP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celkem 15 osob (3 kra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e – aktivně působící zaměstnanec v rámci „páteřní sítě“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ikoliv vzdělání pro vzdělá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i výběru bude dáván důraz n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zkušenosti zaměstnance,  vzdělání zaměstnance,  vazba na vykonávanou agendu,  předpoklad využití krizové intervence pro další práci v rámci sociální práce pro konkrétní ORP!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namné pro výběr bude i zhodnocení motivace konkrétního účastní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omezený počet míst….. zodpovědnost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ÁVĚ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 aktivitách zde představených budete průběžně informová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-mai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rze pracovní skupiny (koordinátoři pláno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ebovými stránk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lefonic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a samozřejmě při osobních setkán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třebuj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ivní kontakt (na koho se obrac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artnerstv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dpo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ivi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odpověd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 případě potřeby více informací apod. se obracejte n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Jan Divoký, projektový a finanční manažer projektu, tel.: 257 280 210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voky@kr-s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dborný přesah – zaměstnanci oddělení sociálních služeb a humanitárních činnos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a pěkný den</a:t>
            </a:r>
            <a:r>
              <a:rPr b="0" lang="cs-CZ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Vladislav Fry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dělení sociálních služeb a humanitárních činnos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yc@kr-s.c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tel.: 257 280 5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854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0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Základní síť sociálních služeb ve Středočeském kraji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: Individuální projekt realizovaný z výzvy 05 OP LZZ,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 vytvořen oddělením individuálního projektu ve spolupráci s oddělením sociálních služeb a humanitárních činností – projekt na podporu financování sociálních služ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tředočeský kraj (pod Odborem sociálních věcí – oddělení individuálního projekt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Z.1.04/3.1.00/05.000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97 822 522,00- Kč (přímo do služeb až 94 350 000,00 Kč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.9.2013 až 31.3.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vybraných druhů sociálních služeb v roce 2014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avazuje na aktivity předchozího projektu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astaveno v souladu s podmínkami výzvy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nyní v řešení veřejné zakázky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optimální začátek části v lednu 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gr. Ondřej Nauš, tel.: 257 280 939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e-mail.: naus@kr-s.c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5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Kvalita sítě pobytových služeb pro seniory a osoby se zdravotním postižením ve Středočeském kra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Individuální projekt realizovaný z výzvy A9 OP LZZ 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vytvořen oddělením soc. služeb a humanitárních činností – na základě identifikovaných potř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tředočeský kraj (pod Odborem sociálních věcí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oddělení individuálního projektu – odborná garance oddělení soc. služeb a hum. činnost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Z.1.04/3.1.00/A9.00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6 028 352,00-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11.2013 až 30.6.2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výšení kvality pobytových sociálních služeb poskytovaných příspěvkovými organizacemi kraje, jejich větší zapojení do tvorby sítě služeb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mapování sociálních služeb, které zřizuje kraj primárně jako služby pobytové, na ně navážou audity kvality ve vybraných službách, konzultace zaměřené na revizi vnitřní dokumentace, postupů a supervize, přenos dobré praxe, kulaté stoly a další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tvoření strategie ohledně efektivního a udržitelného zajištění služeb zřizovaných krajem ve skutečné vazbě na potřebnost v dané lokalitě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odpora sociální ekonomiky a sociálního podnikání jakožto přenositelné pra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gr. Vladislav Fryč, 257 280 545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yc@kr-s.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87000"/>
          </a:bodyPr>
          <a:p>
            <a:pPr indent="0" algn="ctr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c00000"/>
                </a:solidFill>
                <a:latin typeface="Arial"/>
              </a:rPr>
              <a:t>Podpora standardizace výkonu sociálně právní ochrany na území Středočeského kr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grantový projekt připravený do výzvy C2 OP LZZ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jekt vytvořen oddělením SP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 SCHVALOVACÍM PROCESU (prošel hodnocením) - následující info pouze předpokl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čet projektu (předpoklad)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cca 4 mil.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oba realizace projektu (předpoklad)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.2014 – 30.6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tručný popis projektu (předpoklad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odpora standardizace výkonu SPO na území kraje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naplnění standardů kvality soc.-pr. ochran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řijetí nových sociálních pracovníků, profesní rozvoj pracovníků OSPO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workshopy, metodická setkávání a kulaté sto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Další informace po 12.12.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doucí oddělení SPOD Libor Možíš,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zis@kr-s.c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ově realizované a připravované projekty z OP LZZ </a:t>
            </a:r>
            <a:br>
              <a:rPr sz="1800"/>
            </a:b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Odbor sociálních věcí KU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a typ projektu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: Individuální projekt realizovaný z výzvy A9 OP LZZ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 (provázán a stmelen s ostatními</a:t>
            </a:r>
            <a:r>
              <a:rPr b="0" lang="pl-PL" sz="1500" spc="-1" strike="noStrike">
                <a:solidFill>
                  <a:srgbClr val="000000"/>
                </a:solidFill>
                <a:latin typeface="Arial"/>
              </a:rPr>
              <a:t> projekty - systém)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ytvořen oddělením soc. služeb a humanitárních činností (projek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alizátor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tředočeský kraj (pod Odborem sociálních věc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oddělení individuálního projektu – odborná garance oddělení soc. služeb a hum. činnost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egistrační číslo projektu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Z.1.04/3.1.00/A9.0000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ozpočet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0 339 820,00- K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Doba realizace projektu: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1.9.2013 až 30.6.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Stručný popis projektu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zpracovaní analýzy včetně kvalitativního šetření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pracovních skupin, konferencí, odborných seminářů, workshop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koordinace plánování s ohledem jednotný systém a rozvoj sociální práce a soc. služe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dpora vzdělávání zaměstnanců zadavatel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ontakt a bližší info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rojektový a finanční manažer: Mgr. Jan Divoký, tel.: 257 280 210, e-mail.: </a:t>
            </a: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voky@kr-s.c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Odborná garance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oddělení soc.sl. a hum. činnost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                                              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04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1) zpracovaní analýzy včetně šet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yní v procesu veřejná zakázka  - zahájení od cca 1.1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běr dat nejpozději do poloviny roku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kázka za více než 3 mil. K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klad pro stanovení sítě a dostupnosti služeb a od roku 2015 i pro financování sociálních služ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běr dat a jejich zpracování i ve vazbě na finanční mod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LAD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eloplošný přís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vázanost s dalšími službami a potřebami (např. vyrovnávání příležitost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ZÁPOR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pretace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měny legislativ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dostupnost, popř. překrývající s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ÝZVA“ PRO OB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moc při sběru dat a jejich interpetaci – např. skrze skupinu koordinátorů pláno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řístup ke svému území a jeho potřebá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- Podklady pro jednání s veden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2286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2) podpora pracovních skupin, konferencí, odborných seminářů, worksho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vodní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ktualizace a setkání Krajské koordinační komi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chváleno, že pracovní skupiny pod Odborem sociálních věcí – nástroj k výsledné strateg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skupiny – zahájení cca od 2014 – podpora skrze facilitaci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enové skupin vybráni dle průřezu služeb a dle potřeb – cca 15 členů / skupina (mimo koord.p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snou pracovní skupinou koordinátoři plánování (SK i zástupce Hl.m. Praha) – základ sít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skupiny cíleny dle cíl.skupin, popř. skupina financování. Cílové skupiny ….diskuse členění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běhnou 4 odborné semináře dle výstupů – témata k podpoře strate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80000"/>
              </a:lnSpc>
              <a:spcBef>
                <a:spcPts val="4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KTIVNÍ ÚČAST OBCÍ – KOORDINANČÍ SKUPINA PLÁNOVÁNÍ A DALŠ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9676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3) </a:t>
            </a:r>
            <a:r>
              <a:rPr b="1" i="1" lang="cs-CZ" sz="1800" spc="-1" strike="noStrike">
                <a:solidFill>
                  <a:srgbClr val="333399"/>
                </a:solidFill>
                <a:latin typeface="Arial"/>
              </a:rPr>
              <a:t>Regionální konzultační centrum (RKC) -stručná charakter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yní VZ na dodavatele – zahájení cca od 1.1.2014  - do poloviny roku 2015 – 1400 konzultačních hodi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akázka do 1 mi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ílem bude podpora procesů poskytování soc. služeb a soc. práce ve formě konzultací - prostřednictvím seznamu odborníků na témata vztahující se k této oblasti - bude tvořit živý sezn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Obce a kraj budou moci využívat tuto vytvořenou síť jako podporu. O konzultaci budou žádat vždy obce a kraj (zaměstnanci vykonávající agendu soc.služeb a soc. práce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o konzultaci s organizačním pracovníkem centra bude vybrán vhodný konzultant, jehož proplatí dodavatel RK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LADY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eloplošná podpora; Podpora soc. práce ;  Jednotný postup;  Ušetření finančních prostředků; Přenos opakujících se témat;  Ověření fungovaní; tohoto modelu;  Síť odborníků – udržitelná a financovaná i dál;  Podpora smyslu sociální prá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RIZIK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ezájem strany OPR a POU;  Změny legislativy; Špatná realiz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VÝZVA PRO OBCE: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yužít nabídky a reagovat na potřeby     </a:t>
            </a: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85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dpora procesů směřujících k poskytování sociálních služeb a sociální práce s důrazem na jednotnou strategii ve 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4856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4) Vzdělávání koordinátorů plánování rozvoje soc. služ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m je podpořit vzdělávání koordinátorů z obcí v kurzu /resp. kurzech/ směřujícím k zajištění procesu plánování na úrovni potřeb, indikátorů, nastavení procesů, facilitace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yní VZ na dodavatele – zahájení realizace cca od 1.1.2014 – do 31.3.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pro účastníky včetně občerstvení zd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sah vzdělávání je min. 40 hod a max. 56 hod. v kurzu /resp. kurzech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urzy budou akreditovány u MPSV ČR s tím, že půjde o 2 paralelní skupiny po 15 osobá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poklad je 25-27 osob, kteří jsou zaměstnanci obecních úřadů obcí s rozšířenou působností (ORP) popř. v případě potřeby a zájmu i zaměstnanci pověřených úřadů (POÚ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Při výběru bude dáván důraz n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kušenosti zaměstnance, vzdělání zaměstnance, vazbu na vykonávanou agendu, předpoklad využití pro další práci v rámci procesu plánování pro konkrétní ORP, popř. POÚ! zhodnocení motivace konkrétního účastní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ZVA PRO OBCE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yužít nabídky a reagovat ………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BEZ VÁS TO NEPŮJ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Fryč Vladislav</cp:lastModifiedBy>
  <dcterms:modified xsi:type="dcterms:W3CDTF">2013-11-22T19:30:42Z</dcterms:modified>
  <cp:revision>36</cp:revision>
  <dc:subject/>
  <dc:title>Snímek 1</dc:title>
</cp:coreProperties>
</file>