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FBAA-0AC5-4E5B-AC4F-2B8195B60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A502-05F8-46B2-B606-3F8FFDF1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D66E-8EE9-4D4E-ACA6-B7A6737FD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7F38-02E6-43F3-987F-6B73AF13B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A1E0-48DC-4711-92C0-CE88B308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D43B-25FE-4952-8758-37C3F928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6E5F-0FFE-446E-854B-F4EEBB20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162F-1393-4B93-8023-93F3C260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3D78-6793-4B89-AA73-6059735C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1A9D-FD02-4A02-A6DF-5ED51753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EB15-DA52-4EAF-A1F6-BA2E1638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12B0-1731-41D1-9199-77B878A4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FC22-0B09-4CF9-B447-217EF13A889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Podpora MPSV v oblasti plánování sociálních služeb a sociální práce 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28.11.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640"/>
            <a:ext cx="73771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179280" y="758880"/>
            <a:ext cx="1368360" cy="2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Národní strategie rozvoje soc. služeb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Strategický dokument pro oblast soc. služeb na období 2014 –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Cíl: nastavit další zaměření sociálních služeb, vymezit žádoucí postup ke zlepšení fungování sociálních služeb na systémové úrovni a vytvořit vhodnější prostředí ke „kultivaci“ systému sociálních služ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Priority rozvoje sociálních služ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Zákon č. 2/1969 Sb., o zřízení ministerstev a jiných ústředních orgánů ČR - uzákonění povinnosti zpracovávat koncepce rozvoje svěřených odvě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Pracovní skupina (PS), analýza koncepčních/strategických dokumentů se vztahem k soc. službám, konzultační a připomínkový pro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Obsah: Úvod - Koncepční východiska – Analytická část – Strategické oblasti rozvoje + Akční plán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Projekt „Podpora procesů v soc. službách“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2d2d8a"/>
                </a:solidFill>
                <a:uFillTx/>
                <a:latin typeface="Arial"/>
              </a:rPr>
              <a:t>Hlavní cíl</a:t>
            </a: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: podpořit dostupnost sociálních služeb vůči jejich uživatelům prostřednictvím efektivního a transparentního prostředí řízení, distribuce a monitoringu finančních prostředků     z veřejných rozpočtů do sociální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2d2d8a"/>
                </a:solidFill>
                <a:uFillTx/>
                <a:latin typeface="Arial"/>
              </a:rPr>
              <a:t>Aktivita č. 5</a:t>
            </a: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: </a:t>
            </a:r>
            <a:r>
              <a:rPr b="0" lang="sv-SE" sz="2000" spc="-1" strike="noStrike">
                <a:solidFill>
                  <a:srgbClr val="2d2d8a"/>
                </a:solidFill>
                <a:latin typeface="Arial"/>
              </a:rPr>
              <a:t>Plánování dostupnosti soc</a:t>
            </a: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iálních</a:t>
            </a:r>
            <a:r>
              <a:rPr b="0" lang="sv-SE" sz="2000" spc="-1" strike="noStrike">
                <a:solidFill>
                  <a:srgbClr val="2d2d8a"/>
                </a:solidFill>
                <a:latin typeface="Arial"/>
              </a:rPr>
              <a:t> služeb a efektivní distribuce </a:t>
            </a: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finančních </a:t>
            </a:r>
            <a:r>
              <a:rPr b="0" lang="sv-SE" sz="2000" spc="-1" strike="noStrike">
                <a:solidFill>
                  <a:srgbClr val="2d2d8a"/>
                </a:solidFill>
                <a:latin typeface="Arial"/>
              </a:rPr>
              <a:t>prostředků na jejich zajišt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Národní strategie rozvoje sociální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Kritéria kvality plánování sociálních služeb na krajské úrovni a metodika „síťování“ soc. služ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Další témata ve vztahu k plánování      rozvoje soc. služe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Identifikace a vyhodnocování problematických soc. jev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Definice sociálních potřeb vyplývající z identifikovaných soc. jev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Systém finanční podpory poskytování sociální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Druhy/karty sociálních služ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Registrace poskytovatelů sociální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Plánování sociálních služeb v rámci OP LZZ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2d2d8a"/>
                </a:solidFill>
                <a:uFillTx/>
                <a:latin typeface="Arial"/>
              </a:rPr>
              <a:t>Globální gran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Výzvy 22 + 45 Podpora vzdělávání a procesů v soc. službá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Výzvy 65, 78, 97 Podpora procesů plánování soc. služeb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916360" y="1773360"/>
          <a:ext cx="5256000" cy="4179600"/>
        </p:xfrm>
        <a:graphic>
          <a:graphicData uri="http://schemas.openxmlformats.org/drawingml/2006/table">
            <a:tbl>
              <a:tblPr/>
              <a:tblGrid>
                <a:gridCol w="2031840"/>
                <a:gridCol w="1711440"/>
                <a:gridCol w="1512720"/>
              </a:tblGrid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Kraj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Počet projektů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Podpora 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Jihočesk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25 828 1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Jihomoravsk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19 112 78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Královéhradeck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2 796 12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Moravskoslezsk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16 511 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Pardubick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3 195 3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Olomouck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11 247 8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Plzeňsk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3 830 5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Středočesk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28 597 3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Ústeck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13 825 3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Vysočin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5 686 5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Zlínsk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16 519 9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Libereck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1 576 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3080"/>
          </a:xfrm>
          <a:prstGeom prst="rect">
            <a:avLst/>
          </a:prstGeom>
          <a:noFill/>
          <a:ln w="0">
            <a:noFill/>
          </a:ln>
        </p:spPr>
        <p:txBody>
          <a:bodyPr tIns="27360" bIns="2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Operační program Zaměstnanost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0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765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325800" indent="-325800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5 prioritních os – </a:t>
            </a:r>
            <a:r>
              <a:rPr b="0" lang="cs-CZ" sz="2000" spc="-1" strike="noStrike" u="sng">
                <a:solidFill>
                  <a:srgbClr val="2d2d8a"/>
                </a:solidFill>
                <a:uFillTx/>
                <a:latin typeface="Arial"/>
              </a:rPr>
              <a:t>prioritní osa 2 „Sociální začleňování a boj s chudobou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2d2d8a"/>
                </a:solidFill>
                <a:uFillTx/>
                <a:latin typeface="Arial"/>
              </a:rPr>
              <a:t>Investiční priorita 2</a:t>
            </a: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 – Zlepšování přístupu k dostupným, udržitelným a vysoce kvalitním službám, včetně zdravotnictví a sociálních služeb obecného zájm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25800" indent="-32580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2d2d8a"/>
                </a:solidFill>
                <a:uFillTx/>
                <a:latin typeface="Arial"/>
              </a:rPr>
              <a:t>Popis typů a příkladů financovaných aktivi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2d2d8a"/>
                </a:solidFill>
                <a:latin typeface="Arial"/>
              </a:rPr>
              <a:t>Podpora procesu střednědobého plánování služeb (zavádění, realizace a vyhodnocování procesu) s důrazem na využití principu partnerství včetně tvorby SPRSS (přednostně pro správní obvod  obcí s rozšířenou působností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2d2d8a"/>
                </a:solidFill>
                <a:latin typeface="Arial"/>
              </a:rPr>
              <a:t>Vzdělávání soc. pracovníků ve službách a ve veř. správě např. v oblastech rozvoje schopnosti posoudit soc. situaci klienta, case managementu, multidisciplinárního plánování podpory a pomoci,  síťování v rámci konkrétního území, rozpoznání rizik  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2d2d8a"/>
                </a:solidFill>
                <a:latin typeface="Arial"/>
              </a:rPr>
              <a:t>Vzdělávání soc. pracovníků a dalších pracovníků soc. služeb ve způsobech zmocňování (empowerment) uživatelů ústavních služeb, formách a nástrojích zapojování uživatelů do rozhod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Vasková Vladana PhDr. (MPSV)</cp:lastModifiedBy>
  <dcterms:modified xsi:type="dcterms:W3CDTF">2013-11-20T15:08:31Z</dcterms:modified>
  <cp:revision>44</cp:revision>
  <dc:subject/>
  <dc:title>Snímek 1</dc:title>
</cp:coreProperties>
</file>