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3F4-9F6C-4DFB-8DAA-0C57CA8D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F6E4-7657-435F-AA80-5ECA8675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7DD-834E-4141-8BB1-3D92E4D4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67C-0DC3-4987-8680-B33BC450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EC3-5D25-4C8E-996E-E3C758F7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0F03-4B99-4781-A2D7-76D8C079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6697-A6D0-4804-AE88-FDC90E82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058-3300-45DC-935A-85756341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B2A9-C284-44F2-B5A9-5C16C457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ACEF-56C6-4E00-B702-67E3D040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9763-A886-4FBF-9350-65F3C6CB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606-A57D-4A49-B5A2-4D557203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8A3C-A70C-4CBC-8219-4EDAC82EBCF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pora procesů směřujících k poskytování sociálních služeb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sociální práce s důrazem na jednotnou strategii ve Středočeském kraji“</a:t>
            </a:r>
            <a:br>
              <a:rPr sz="3200"/>
            </a:b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Z.1.04/3.1.00/A9.00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52640"/>
            <a:ext cx="73771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79280" y="758880"/>
            <a:ext cx="1368360" cy="2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o d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yba není v metodě, ale v ná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mluvme o tom co nejde či jde, ale dělejm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kuj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pracuj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Někdy to jde ztuha, ale stojí to za 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eji hezký zbytek d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rtina Macur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rtina.macurova@cpkp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800" spc="-1" strike="noStrike">
              <a:solidFill>
                <a:srgbClr val="d113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aplňuje plánování sociálních služeb 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ředočeském kraji naše očekávání?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o ne/popisují komunitní pl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eší důsledky, ne příči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pisují pouze jednotlivé sociální služ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pisují potřebnost pouze ve vztahu k jednotlivým sociálním službá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Nejsou provázané s dalšími strategickými dokumenty územ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o nepopisují dostateč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ven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vázanost služe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unitní prá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izi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izika plánování pomoci lidem v nou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itici to nechtěj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ní s kým pláno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álo pozitivních příklad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 neúspěchů než úspěch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ce se plánovat pouze pro něko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Vždyť ti lidé si za to mohou s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o potřebuj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bré příkla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unitní služ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hodné nástroje pro práci s klien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snou provázanou strategii v lokalitě/územ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itickou podporu respektující sociální prá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o je potřeba mít v plán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poru mezioborové spoluprá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oj preventivních programů s klien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jištění kontinuální finanční podp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stupnost v územ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stupnost pomo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unitní služb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lány musí být srozumitelné a respektov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rét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řiteln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sažitel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ál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ově ohraniče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ůběžně hodnoce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Co je důlež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e Středočeským kraj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 MPS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áce s obcemi, poskytovatel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še vzájemná spoluprá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otřebujeme krajskou strategii, která toto bude odráže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Martina Macurová</cp:lastModifiedBy>
  <dcterms:modified xsi:type="dcterms:W3CDTF">2013-11-27T07:40:45Z</dcterms:modified>
  <cp:revision>27</cp:revision>
  <dc:subject/>
  <dc:title>Snímek 1</dc:title>
</cp:coreProperties>
</file>