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5F5-B97D-413B-BE05-14B06C6A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8B5-C072-4993-ACD3-E925536D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68D-2580-41C9-8B1E-5720D2DA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A17-B02D-41B7-9383-10213E55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49D-53B5-4479-9C33-324F9B88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0DC-DE2E-4A35-9388-82CB5D5C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A762-CD0E-4EE3-8F12-292E71EB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A88-945E-4BB4-AE52-C3AF2105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FA4-2898-46AA-A3FE-9CCAA828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AC7-C6BE-435C-B2BC-D53E9D08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787-B74F-494B-A733-8890BEE2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8C2-D3F3-45EA-9706-44231FE7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6E8F-8A08-4E1A-91DA-BD4F9B0C406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machjiri1@gmail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Plánování a individuální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73771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Funkce plánování rozvoje služe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ro stanovení sítě potřebných služeb v lokal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troj pro přidělování finančních prostředků na poskytování sociálních 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troj regulace nabídky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ytváření plán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pojení zástupců zájmových sku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účast zástupců zadavatelů, poskytovatelů a uživatelů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yramida plánů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rodní pl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jský plá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ístní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vojové plány organiz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ividuální plány klientů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Individuální podp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kázka klienta v sociální práci/terapii se mění v č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flektujeme na potřeby cílových skupin, jejichž potřeby jsou formálně kompenzovány jinými službami - mění se náhled na cílové skupiny (příklad – služby pro lidi s mentálním postižením nebo s chronickým duševním onemocnění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ím je podpora individualizovanější, tím obtížněji  je vyjádřitelná v obecném plá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říklad kolize plánování          a individuálních potřeb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měna „sociálních“ ubytoven na službu azylových do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nik velkokapacitní pobytov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nížení šance na návrat do běžné společ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mělé vytvoření skupiny klientů bez mo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přednostněn zájem poskytovate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 je však pro zadavatele služeb snadno uchopitelný a vyjádřitelný v plá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říklad kolize plánování         a individuálních potřeb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alizace konceptu Housingfirst pro lidi  s chronickým duševním onemocně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flexe na individuální potřeby klientů z cílové skupiny, která byla pomíjena nebo bylo deklarováno, že jejich podpora je řešena jinými službami (domov se zvláštním režim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užba v přirozeném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íky tomu, že nejde o silnou uživatelskou skupinu, je riziko, že její zájmy budou při plánování upozaděny         a bude dána přednost institucionálním řešení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táz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é jsou limity plánování rozvoje sociálních služe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ěl by být (může vůbec) zadavatel sociálních služeb být nezávisl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pouštíme možnost konfliktu potřeb poskytovatelů služeb a jejich uživatelů? Pokud ano, co s tí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Děkuji Vám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ří M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chjiri1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l.: 603 192 6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J.Mach</cp:lastModifiedBy>
  <cp:lastPrinted>2013-11-27T13:37:00Z</cp:lastPrinted>
  <dcterms:modified xsi:type="dcterms:W3CDTF">2013-11-27T13:37:46Z</dcterms:modified>
  <cp:revision>45</cp:revision>
  <dc:subject/>
  <dc:title>Snímek 1</dc:title>
</cp:coreProperties>
</file>