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979-775F-4751-83E0-DC457B94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FACD-B855-4869-B925-2BCBE0F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E84-9DF2-4E07-A858-9740A351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819C-1A82-4719-BE29-87095BE8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54A-0434-4FF5-A80F-A546BDD0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532-9500-4375-BDAC-738A4CF5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3459-8C6B-4E12-9939-4F4F379C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606-1690-4637-AA4F-4AF165E0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B91-890A-45B7-A7BE-AF83FDCA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64B-9946-4401-AA75-5D5B8128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9FE-99F8-4D16-B7F5-5856985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100-6FEF-4EE0-969F-726A7EF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8034-2561-451D-A5E9-F371873DE2E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Podpora MPSV v oblasti plánování sociálních služeb a sociální práce </a:t>
            </a: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28.11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Národní strategie rozvoje soc. služeb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Strategický dokument pro oblast soc. služeb na období 2014 –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Cíl: nastavit další zaměření sociálních služeb, vymezit žádoucí postup ke zlepšení fungování sociálních služeb na systémové úrovni a vytvořit vhodnější prostředí ke „kultivaci“ systému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iority rozvoje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Zákon č. 2/1969 Sb., o zřízení ministerstev a jiných ústředních orgánů ČR - uzákonění povinnosti zpracovávat koncepce rozvoje svěřených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acovní skupina (PS), analýza koncepčních/strategických dokumentů se vztahem k soc. službám, konzultační a připomínk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Obsah: Úvod - Koncepční východiska – Analytická část – Strategické oblasti rozvoje + Akční plán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rojekt „Podpora procesů v soc. službách“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Hlavní cíl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podpořit dostupnost sociálních služeb vůči jejich uživatelům prostřednictvím efektivního a transparentního prostředí řízení, distribuce a monitoringu finančních prostředků     z veřejných rozpočtů do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Aktivita č. 5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: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lánování dostupnosti soc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iálních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 služeb a efektivní distribuce 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finančních </a:t>
            </a:r>
            <a:r>
              <a:rPr b="0" lang="sv-SE" sz="2000" spc="-1" strike="noStrike">
                <a:solidFill>
                  <a:srgbClr val="2d2d8a"/>
                </a:solidFill>
                <a:latin typeface="Arial"/>
              </a:rPr>
              <a:t>prostředků na jejich zajiš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Národní strategie rozvoje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Kritéria kvality plánování sociálních služeb na krajské úrovni a metodika „síťování“ soc.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Další témata ve vztahu k plánování      rozvoje soc. služ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Identifikace a vyhodnocování problematick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finice sociálních potřeb vyplývající z identifikovaných soc. jev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ystém finanční podpory poskytování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Druhy/karty sociálních služ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Registrace poskytovatelů sociální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Plánování sociálních služeb v rámci OP LZZ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Globální gran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22 + 45 Podpora vzdělávání a procesů v soc. služ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Výzvy 65, 78, 97 Podpora procesů plánování soc. služeb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16360" y="1773360"/>
          <a:ext cx="5256000" cy="4179600"/>
        </p:xfrm>
        <a:graphic>
          <a:graphicData uri="http://schemas.openxmlformats.org/drawingml/2006/table">
            <a:tbl>
              <a:tblPr/>
              <a:tblGrid>
                <a:gridCol w="2031840"/>
                <a:gridCol w="1712880"/>
                <a:gridCol w="1511280"/>
              </a:tblGrid>
              <a:tr h="520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aj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čet projektů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odpora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če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5 828 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Jihomorav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9 112 7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Královéhrade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 796 1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Moravskoslezs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1 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ardubick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195 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Olomou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1 247 8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Plzeň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 830 5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Středoče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28 597 3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Úst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3 825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Vysoči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5 686 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Zlíns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6 519 9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Libereck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2d2d8a"/>
                          </a:solidFill>
                          <a:latin typeface="Arial"/>
                        </a:rPr>
                        <a:t>1 576 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Operační program Zaměstnanost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0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765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325800" indent="-32580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5 prioritních os – </a:t>
            </a: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rioritní osa 2 „Sociální začleňování a boj s chudobou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Investiční priorita 2</a:t>
            </a: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 – Zlepšování přístupu k dostupným, udržitelným a vysoce kvalitním službám, včetně zdravotnictví a sociálních služeb obecného záj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2d2d8a"/>
                </a:solidFill>
                <a:uFillTx/>
                <a:latin typeface="Arial"/>
              </a:rPr>
              <a:t>Popis typů a příkladů financovaných aktiv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Podpora procesu střednědobého plánování služeb (zavádění, realizace a vyhodnocování procesu) s důrazem na využití principu partnerství včetně tvorby SPRSS (přednostně pro správní obvod  obcí s rozšířenou působností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ve službách a ve veř. správě např. v oblastech rozvoje schopnosti posoudit soc. situaci klienta, case managementu, multidisciplinárního plánování podpory a pomoci,  síťování v rámci konkrétního území, rozpoznání rizik 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d2d8a"/>
                </a:solidFill>
                <a:latin typeface="Arial"/>
              </a:rPr>
              <a:t>Vzdělávání soc. pracovníků a dalších pracovníků soc. služeb ve způsobech zmocňování (empowerment) uživatelů ústavních služeb, formách a nástrojích zapojování uživatelů do rozhod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tIns="27360" bIns="27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lastní aktivity MPSV v oblasti podpory sociální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41300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ro rok 2014 – individuální projekt pro podporu vzdělávání v oblasti sociální práce pro sociální pracovníky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říprava individuálního projektu s cílem podpory aktivit sociální práce v obcích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Příprava dotačního titulu pro obce v oblasti podpory sociální práce spojeného s působností obce s rozšířenou působ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d2d8a"/>
                </a:solidFill>
                <a:latin typeface="Arial"/>
              </a:rPr>
              <a:t>Spolupráce s vydavateli odborných i populárních periodik v oblasti sociální práce – příklady dobré praxe – namísto vydávání desítek metodik či doporučených postup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Suda Radek PhDr. (MPSV)</cp:lastModifiedBy>
  <dcterms:modified xsi:type="dcterms:W3CDTF">2013-11-25T15:28:55Z</dcterms:modified>
  <cp:revision>46</cp:revision>
  <dc:subject/>
  <dc:title>Snímek 1</dc:title>
</cp:coreProperties>
</file>